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B2875-A74D-4D55-BE6F-7C13B1B47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FE3C-C1A1-4D26-AED0-5B207FF3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DA5E0-B41A-4CB8-8AD1-D15D75B34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2B296-53BF-4250-919D-B55E94FEA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325BA-6546-4645-9A30-2F9744552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EC690-5F9E-417D-895A-3F55FAD8B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92CD7-2C01-4FC7-AB1A-CD9423A1D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0FB69-535D-4EFE-8F8D-301719CA8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D3895-D3C0-464C-A532-D4B2DA3BD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4C946-6FA9-4881-BA2F-FD3440F77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5F85A-2026-4216-A1F2-259577FD8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70324-2AD5-4D08-97E6-6A69BDAC8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B313-6F62-4665-8594-778EC22BF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2F1F0-7FD4-44AB-A2F0-AF95AFE6F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3D2A5-5E99-4533-9404-81E939E80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9BD0B-E088-46DB-9618-53B72B362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6D70D-AEC8-400A-8EC6-5473E80CC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4867-FE6C-498A-B042-AB113A852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76BEC-FB14-465D-B073-8E04A725E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9ACB3-8DB4-486D-8ACF-6392D253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BEC81-453C-40FC-9274-483E1748E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DED1-8EE3-420F-88F4-E38758F8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FEC3-24B6-47C6-9B3A-02BA78633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AD69-C8AB-4FEF-8BCB-FE5ECCAD8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26A0-C56D-43FE-9E52-BB4C54B9107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72A0-0CDF-49BE-94E8-B50C1995F8B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nnefrank.org/content.asp?pid=2&amp;lid=2" TargetMode="External"/><Relationship Id="rId2" Type="http://schemas.openxmlformats.org/officeDocument/2006/relationships/hyperlink" Target="http://www.ushmm.org/wlc/article.php?ModuleId=10005210"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838080" y="27428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Anne Frank</a:t>
            </a:r>
            <a:br>
              <a:rPr sz="8000"/>
            </a:br>
            <a:r>
              <a:rPr b="0" lang="en-US" sz="1200" spc="-1" strike="noStrike">
                <a:solidFill>
                  <a:srgbClr val="ffffcc"/>
                </a:solidFill>
                <a:latin typeface="Tahoma"/>
              </a:rPr>
              <a:t>http://www.sptimes.com/News/040500/photos/nie-anne.jpg</a:t>
            </a:r>
            <a:endParaRPr b="0" lang="en-US" sz="1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w</p:attrName>
                                        </p:attrNameLst>
                                      </p:cBhvr>
                                      <p:tavLst>
                                        <p:tav tm="0">
                                          <p:val>
                                            <p:fltVal val="0"/>
                                          </p:val>
                                        </p:tav>
                                        <p:tav tm="100000">
                                          <p:val>
                                            <p:strVal val="#ppt_w"/>
                                          </p:val>
                                        </p:tav>
                                      </p:tavLst>
                                    </p:anim>
                                    <p:anim calcmode="lin" valueType="num">
                                      <p:cBhvr additive="repl">
                                        <p:cTn id="8"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o is Anne Frank?</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Anne Frank is a famous Jewish child that survived the holocaus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was born June 12 1929</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Her death took place in 194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Poor Richard"/>
              </a:rPr>
              <a:t>When did this all happen</a:t>
            </a:r>
            <a:br>
              <a:rPr sz="4000"/>
            </a:br>
            <a:r>
              <a:rPr b="0" lang="en-US" sz="4000" spc="-1" strike="noStrike">
                <a:solidFill>
                  <a:srgbClr val="ffffcc"/>
                </a:solidFill>
                <a:latin typeface="Poor Richard"/>
              </a:rPr>
              <a:t> (When she went into hiding)</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During the holocaust of 1942</a:t>
            </a:r>
            <a:endParaRPr b="0" lang="en-US" sz="3200" spc="-1" strike="noStrike">
              <a:solidFill>
                <a:srgbClr val="ffffff"/>
              </a:solidFill>
              <a:latin typeface="Tahoma"/>
            </a:endParaRPr>
          </a:p>
        </p:txBody>
      </p:sp>
      <p:pic>
        <p:nvPicPr>
          <p:cNvPr id="94" name="" descr=""/>
          <p:cNvPicPr/>
          <p:nvPr/>
        </p:nvPicPr>
        <p:blipFill>
          <a:blip r:embed="rId1"/>
          <a:stretch/>
        </p:blipFill>
        <p:spPr>
          <a:xfrm>
            <a:off x="1905120" y="2971800"/>
            <a:ext cx="4457520" cy="2760840"/>
          </a:xfrm>
          <a:prstGeom prst="rect">
            <a:avLst/>
          </a:prstGeom>
          <a:ln w="0">
            <a:noFill/>
          </a:ln>
        </p:spPr>
      </p:pic>
      <p:sp>
        <p:nvSpPr>
          <p:cNvPr id="95" name=""/>
          <p:cNvSpPr/>
          <p:nvPr/>
        </p:nvSpPr>
        <p:spPr>
          <a:xfrm>
            <a:off x="1887120" y="5791320"/>
            <a:ext cx="415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brokenworld.wikispaces.com/file/view/nazi_sign.JPG/30582486/nazi_sign.JPG</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Why did this happe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ecause during the holocaust the Germans were sending the Jewish people to concentration camps and not only Anne, but other Jewish people also went into hiding any place where Germans wouldn’t find them</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Under floor boards, behind walls, sewers, anne a room behind a book shelf in her ho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Anne’s house (blue)</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 descr=""/>
          <p:cNvPicPr/>
          <p:nvPr/>
        </p:nvPicPr>
        <p:blipFill>
          <a:blip r:embed="rId1"/>
          <a:stretch/>
        </p:blipFill>
        <p:spPr>
          <a:xfrm>
            <a:off x="2590920" y="1828800"/>
            <a:ext cx="371448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Poor Richard"/>
              </a:rPr>
              <a:t>The impact Anne Had</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She became a famous Jew who had survived the Holocaust, yes like many other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But she only became famous through her entries in her diary she kept while hi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tatio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annefrank.org/content.asp?pid=2&amp;lid=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ushmm.org/wlc/article.php?ModuleId=1000521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http://bristol.indymedia.org/attachments/apr2009/anne_franks_diary_compressed__afs_amsterdam__aff_basel_reproduced_by_permission_of_the_anne_frank_trust_uk.jpg</a:t>
            </a:r>
            <a:endParaRPr b="0" lang="en-US" sz="1000" spc="-1" strike="noStrike">
              <a:solidFill>
                <a:srgbClr val="ffffff"/>
              </a:solidFill>
              <a:latin typeface="Tahoma"/>
            </a:endParaRPr>
          </a:p>
        </p:txBody>
      </p:sp>
      <p:pic>
        <p:nvPicPr>
          <p:cNvPr id="107" name="" descr=""/>
          <p:cNvPicPr/>
          <p:nvPr/>
        </p:nvPicPr>
        <p:blipFill>
          <a:blip r:embed="rId1"/>
          <a:stretch/>
        </p:blipFill>
        <p:spPr>
          <a:xfrm>
            <a:off x="5334120" y="2514600"/>
            <a:ext cx="3200400" cy="3333600"/>
          </a:xfrm>
          <a:prstGeom prst="rect">
            <a:avLst/>
          </a:prstGeom>
          <a:ln w="0">
            <a:noFill/>
          </a:ln>
        </p:spPr>
      </p:pic>
      <p:pic>
        <p:nvPicPr>
          <p:cNvPr id="108" name="" descr=""/>
          <p:cNvPicPr/>
          <p:nvPr/>
        </p:nvPicPr>
        <p:blipFill>
          <a:blip r:embed="rId2"/>
          <a:stretch/>
        </p:blipFill>
        <p:spPr>
          <a:xfrm>
            <a:off x="838080" y="2133720"/>
            <a:ext cx="2857680" cy="36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02:22Z</dcterms:created>
  <dc:creator>41323</dc:creator>
  <dc:description/>
  <dc:language>en-US</dc:language>
  <cp:lastModifiedBy>41323</cp:lastModifiedBy>
  <dcterms:modified xsi:type="dcterms:W3CDTF">2009-12-14T15:04:17Z</dcterms:modified>
  <cp:revision>5</cp:revision>
  <dc:subject/>
  <dc:title>Anne Frank </dc:title>
</cp:coreProperties>
</file>